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millionaire1.wav" ContentType="audio/x-wav"/>
  <Override PartName="/ppt/media/image11.png" ContentType="image/png"/>
  <Override PartName="/ppt/media/scoreopen.wav" ContentType="audio/x-wav"/>
  <Override PartName="/ppt/media/score1.wav" ContentType="audio/x-wav"/>
  <Override PartName="/ppt/media/image6.png" ContentType="image/png"/>
  <Override PartName="/ppt/media/image10.png" ContentType="image/png"/>
  <Override PartName="/ppt/media/ccheer.wav" ContentType="audio/x-wav"/>
  <Override PartName="/ppt/media/image5.png" ContentType="image/png"/>
  <Override PartName="/ppt/media/image1.png" ContentType="image/png"/>
  <Override PartName="/ppt/media/image2.png" ContentType="image/png"/>
  <Override PartName="/ppt/media/Million%20Intro.wav" ContentType="audio/x-wav"/>
  <Override PartName="/ppt/media/image3.png" ContentType="image/png"/>
  <Override PartName="/ppt/media/image4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Webding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F5FF-7B03-4A84-A333-7024B8EAA5C1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9867-BD34-49C3-98AD-04F30C93FA24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AD5-902F-4087-B6A8-DE23856A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2D0-BDEC-40F7-9FA9-74755DA6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F32-59B1-49FD-8A3B-DE48F75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0C8-ED11-404B-BF93-3F1B6255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E64-D3C9-48B4-BACD-A0259F09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2EE-279A-4BA5-9860-6C6247BC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7F4-FABB-43D6-B318-4703423D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692-8FBD-470F-8787-D0642FD9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926-48D4-4564-85A2-BBCD51B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0F4-C1C1-465F-B6BA-08A1798E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5DA-D084-4D08-B2CF-02EB43C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EED-D3C1-4B85-80C2-2083640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1"/>
            </a:gs>
            <a:gs pos="50000">
              <a:srgbClr val="000048"/>
            </a:gs>
            <a:gs pos="100000">
              <a:srgbClr val="00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F467-4DA0-4F3A-B002-B8A65FFF9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audio" Target="../media/Million%20Intro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scoreopen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millionaire3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laugh%20track.wav" TargetMode="External"/><Relationship Id="rId11" Type="http://schemas.openxmlformats.org/officeDocument/2006/relationships/hyperlink" Target="file:///tmp/home/.config/libreoffice/4/user/gallery/finalanswer.wav" TargetMode="External"/><Relationship Id="rId12" Type="http://schemas.openxmlformats.org/officeDocument/2006/relationships/audio" Target="../media/millionaire1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che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llion%20Intro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iglogo"/>
          <p:cNvPicPr/>
          <p:nvPr/>
        </p:nvPicPr>
        <p:blipFill>
          <a:blip r:embed="rId1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hkring"/>
          <p:cNvPicPr/>
          <p:nvPr/>
        </p:nvPicPr>
        <p:blipFill>
          <a:blip r:embed="rId2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biglogo"/>
          <p:cNvPicPr/>
          <p:nvPr/>
        </p:nvPicPr>
        <p:blipFill>
          <a:blip r:embed="rId3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4673520" y="3581280"/>
            <a:ext cx="152640" cy="228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3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5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46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0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154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6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17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7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0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5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7" name="AutoShape 10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8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2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2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3" name="AutoShape 11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9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5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51" name="Group 13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25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6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0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71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5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78" name="Group 14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279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1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4" name="AutoShape 9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5" name="AutoShape 10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6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7" name="AutoShape 12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8" name="AutoShape 13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1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2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06" name="Group 16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0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1" name="AutoShape 8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2" name="AutoShape 9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4" name="AutoShape 11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5" name="AutoShape 12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6" name="AutoShape 13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8" name="AutoShape 15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2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9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2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3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36" name="Group 17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337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8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39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0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1" name="AutoShape 8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2" name="AutoShape 9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3" name="AutoShape 10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5" name="AutoShape 12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6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7" name="AutoShape 14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8" name="AutoShape 15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3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6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3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67" name="Group 19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368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69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1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2" name="AutoShape 8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3" name="AutoShape 9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4" name="AutoShape 10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5" name="AutoShape 11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6" name="AutoShape 12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7" name="AutoShape 13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8" name="AutoShape 14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9" name="AutoShape 15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0" name="AutoShape 16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1" name="AutoShape 17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2" name="AutoShape 18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4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9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5" name="thinking.wav" descr=""/>
          <p:cNvPicPr/>
          <p:nvPr/>
        </p:nvPicPr>
        <p:blipFill>
          <a:blip r:embed="rId7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big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5">
            <a:hlinkClick r:id="rId10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9" name="AutoShape 24">
            <a:hlinkClick r:id="rId11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2" name="millionaire1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00" name="Group 19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40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5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7" name="AutoShape 10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8" name="AutoShape 11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9" name="AutoShape 12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0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1" name="AutoShape 14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2" name="AutoShape 15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3" name="AutoShape 16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4" name="AutoShape 17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5" name="AutoShape 18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15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8"/>
          <p:cNvSpPr/>
          <p:nvPr/>
        </p:nvSpPr>
        <p:spPr>
          <a:xfrm>
            <a:off x="609480" y="4608360"/>
            <a:ext cx="358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10552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26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0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114300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biglogo"/>
          <p:cNvPicPr/>
          <p:nvPr/>
        </p:nvPicPr>
        <p:blipFill>
          <a:blip r:embed="rId1"/>
          <a:stretch/>
        </p:blipFill>
        <p:spPr>
          <a:xfrm>
            <a:off x="2455920" y="914400"/>
            <a:ext cx="4435560" cy="4411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3" name="ccheer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2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6" name="AutoShape 15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9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3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0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0" name="Group 7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1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Quest ion 4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correct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nsw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52280" y="4608360"/>
            <a:ext cx="4419720" cy="609840"/>
          </a:xfrm>
          <a:prstGeom prst="hexagon">
            <a:avLst>
              <a:gd name="adj" fmla="val 61602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01:55:03Z</dcterms:created>
  <dc:creator>Christopher Fane</dc:creator>
  <dc:description/>
  <dc:language>en-US</dc:language>
  <cp:lastModifiedBy>jskidd</cp:lastModifiedBy>
  <dcterms:modified xsi:type="dcterms:W3CDTF">2009-11-13T20:16:58Z</dcterms:modified>
  <cp:revision>59</cp:revision>
  <dc:subject/>
  <dc:title>WWTBAM</dc:title>
</cp:coreProperties>
</file>